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36.jpeg" ContentType="image/jpeg"/>
  <Override PartName="/ppt/media/image9.jpeg" ContentType="image/jpeg"/>
  <Override PartName="/ppt/media/image43.jpeg" ContentType="image/jpeg"/>
  <Override PartName="/ppt/media/image4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49.jpeg" ContentType="image/jpeg"/>
  <Override PartName="/ppt/media/image41.png" ContentType="image/png"/>
  <Override PartName="/ppt/media/image53.png" ContentType="image/png"/>
  <Override PartName="/ppt/media/image55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wmf" ContentType="image/x-wmf"/>
  <Override PartName="/ppt/media/image28.jpeg" ContentType="image/jpeg"/>
  <Override PartName="/ppt/media/image51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66C4-223B-4746-AB33-B9650BA8F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5BEF-50C7-4724-8247-40E027E53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87C4-9B40-48A4-B422-31B1A095E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0" i="1" lang="en-US" sz="1200" spc="-1" strike="noStrike">
                <a:solidFill>
                  <a:srgbClr val="3c8c93"/>
                </a:solidFill>
                <a:latin typeface="Arial"/>
              </a:rPr>
              <a:t>conversations</a:t>
            </a:r>
            <a:r>
              <a:rPr b="0" i="1" lang="en-US" sz="1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3c8c93"/>
                </a:solidFill>
                <a:latin typeface="Arial"/>
              </a:rPr>
              <a:t>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4DE2-E2A7-450A-BFFC-41DC17FA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online as we do face to 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D396-52C8-4AD0-8EB5-78EFD4582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0CAB-B66B-4EA4-9B99-39DFBECE4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51A9-C8A6-49B0-BDDB-17AFA7EE8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8578-F333-4F25-900F-01EA15A7C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1CF7-ACDF-42B1-B6FC-B7DB362CF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2FC-A3BB-4ED0-884C-B3A9D1FB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D99-6418-489A-86BC-E52DED8E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89FD3-7257-4DF6-A7D7-1168429A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9DB96-6EC7-4CD8-814A-6565EE69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8E662-C41F-4FC5-BD06-91A29D2A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B05F1-1869-462C-8334-42774B1A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08153-36CA-457C-ACDC-CAB731CC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0EA58-02CD-4687-BC57-04FB7F0E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41BDE-726C-4229-AF58-32932B67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FDAA8-58F9-464F-BE9B-5670B4B8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C9781-655F-4F8D-9441-CF278B4F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600D0-5101-46FE-A768-1EF03A41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F5B-28FC-4D74-B59A-35EC97D6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25926-D7DC-411F-A2A3-E5FBD630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67D9B-18E1-4D45-AAEA-C4D49855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A8459-336A-4DFD-BC16-0F34E65F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78B16-7947-47AF-B75B-08CBBB13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567C9-7949-49A3-B09F-9D2FAA8F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7AB80-F43C-4D7F-8CBC-AF1CBB7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5A673-961A-4705-B3E6-08353590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B9A27-0F7F-42F4-B887-6A2F8218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92762-6E04-47AD-AF72-EAE59013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3A34D-D1C7-4CA8-AA18-3007E156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F81-5098-4282-B495-231CA569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F4A49-6463-4FE5-ADAF-2018CE38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5925C-FC1F-44B0-92AC-15D62E41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458A2-9969-4486-85B3-011585C3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32DB4-6962-48F2-8053-762DAF98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F7674-E8F0-4BD7-9F03-75300CA4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A3B37-9F9A-4303-8FB3-1EF73487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87856-327A-4BF5-8738-107069F1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010C0-A1CD-41B5-B0FF-FA1B7C02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2AC33-4AFF-4B0D-9832-DABB905D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373C1-EDB8-4C1F-872F-D8901546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8690-C6A5-49D3-B8C9-470467C4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EBC13-2789-4302-9669-6202FC1F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58942-0F74-47EA-B79E-A67F5FCB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ABA8D-4731-4D86-ACA6-6B5156F2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F332F-E5AD-40B5-922D-9BC16AE6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6A864-CF68-4804-8271-38E8F7E2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6F6B9-F869-434A-B68E-2AD88AA6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9E7C2-E5C3-4FBA-B85E-5593941C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240F0-D68D-47B8-A0EE-809EB61F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40276-82B3-4996-AD2C-BC8919F4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9D815-EF06-46AA-BEB2-9A34522A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AB03-CB01-4060-A5B4-EC47CC2F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5772C-AA03-4032-A9FA-54D8A3D6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E5E85-91FE-4211-8710-40238DE1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6BA2D-C2E8-4A17-90BD-E8FA25B8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EF02F-B191-4915-AFF7-B53394D5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4FD60-A86F-4C44-BF91-2CED52B5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D8337-F95D-4AF2-A375-25E257C1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9B192-0A45-4A7E-AFFB-625B180F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FE2F8-5CD1-41CD-902D-4B4CCEB8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4A001-62A0-4858-A335-19CFB0B5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9C46E-CD44-4C3D-A825-77597C87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2DFA-73F9-4F45-9D8C-8CA20F1B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CFDE3-9330-4618-99A2-7AF9A63C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E22BA-8C8B-45C4-86EF-64FB29B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E8AEF-2902-4108-B1DA-BA68BFF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A627B-6F33-4F07-B891-A566BF11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D7E17-B433-4611-BF09-7295A5F5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AD892-79BA-43A0-9EA3-749B4711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63B89-E7B6-47CD-AA94-97397481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B9CEA-ABB6-4F3A-97ED-923BB516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9138C-0D45-401E-B4E5-0685D604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D390E-7686-45CE-A4B3-CA831021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329E-4DA9-44B4-AE5A-E4DED6A1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BC225-0209-485B-9407-7F34A98F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4EDE5-E24F-4475-B7E1-5C08B25C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B3835-0881-4F00-AE3D-9CCEEF0F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5FF32-0B30-4161-B312-51E55639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C6EF9-1E37-444C-BD6B-0651C940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16029-188E-4ACE-9E6E-4EA86ADD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AE17A-D7BF-4A85-8451-DDA864DB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D8D4E-5FCA-4C1E-8191-4A7817EC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8BBF3-AF98-426D-841A-3D3A6678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4074-35E7-45B9-91BC-C3537BAF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AB34-0209-4C2B-AD5B-5FF9378B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0F42-2250-40A5-8691-6344E594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E3C-380D-4379-A1BC-8A815EF9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6FB5-4A1C-4E2D-AD20-470A332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65B6-8AD1-4649-A52D-1953AA05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6501-79FB-413A-812A-B91F5F5C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F751-141B-4B31-A18F-B7EC815F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1B6E-8E37-458C-874B-35B41A2F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1F3D8-54B0-4B83-9BB3-B01EE6EA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FB1AF-AB3A-4DF4-B0AD-DAB4D7E3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619D-7048-48F9-BC5A-52061588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A5E6-247A-49F0-A1B9-EB2C65C4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5B72-859B-4168-B207-D479D8F1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AA6-089F-4A4E-AF24-60130461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7EDAD-9941-4467-A12B-422C4BF0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2DAB-1AEC-4FE4-82C3-2D04AEB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F9F4-4C72-408C-AF6A-D144E31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3BC8-A4B5-44D8-B645-DC25B8ED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6391-2B5E-4D30-9FBB-B525BA8C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0E8C-B8A5-4446-A2DF-95C5BE54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23C8-D103-48E0-AB92-DF88D3BF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10B2-0236-4288-BA71-FE57EBF7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F8766-3361-49AD-A2D4-21D81496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8E64-F2BF-4A3B-BD89-8AE173FE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940-AC96-4ADD-B108-F11B773C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2F82E-5230-4071-BADE-F495A27C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DDDD-DE09-45AD-A3F4-E8C538FB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DF450-F8C4-4586-803D-4F3464E0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F8C7D-D3CD-4212-8C93-4F607E89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41ED-9693-487C-86CE-A90D82A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92F0-D65E-4C5E-AFC1-73C5054E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A3D77-02CC-45B7-840F-BA4833CA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6B284-9A62-43F8-81D1-A9AE9ACC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FA3B2-C309-454A-BB0C-941160D1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AFE92-C367-48CB-BE3C-45445DCC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169-63AE-4257-902C-D3ACAFBB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AC2B2-91EF-4064-B82C-A47C234B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5C971-A6D5-4D9E-A5D7-02E38A2E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E2540-426B-4BEA-9113-A66C28C3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B21EF-3139-4199-AE89-75B7B282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745D8-CC16-404E-9044-BD9DD843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16571-1E20-4F80-BFFF-94FD22FC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796EE-FA99-4741-81CF-B8476018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2BE0-E337-4166-8BEF-289230D3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2E65A-3E05-4ED6-BB32-7CDF0DDB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F7060-BC05-4796-BBE1-C113A397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C35-A618-407C-B519-0FEF7A11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229D5-A874-4072-A806-C30F312E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2604C-8AB6-485B-BFE8-C6A5045F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41C8A-0F74-4961-9B2F-5538EE88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4DDA7-C06E-4AAF-B675-20CFB72D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8E69B-3119-4A4D-AF48-C8998674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DAB8E-7194-46BD-818E-9A812179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0EC7D-C572-4837-ACA3-46A0390A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35EF2-C3DB-4391-AF09-D823FFBA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35460-4822-401A-9305-B1774942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CFA94-5E70-4DEC-82D3-A4A6B0E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B73-9224-40B4-873F-8EA4B7E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6E724-4728-45F1-AF9E-1C8A135A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994B4-47E0-46DB-AB04-64E4B3AB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2DC4D-E8AE-4FE8-BC7A-605F750B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CC423-B764-4A65-8519-B7B6E7C3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C4201-74A7-4CD8-B495-B45DFF6D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38CE5-E82A-4D79-B2BB-C3CDD9DC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C161F-4F5F-4D2B-9013-BD523A2E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4CBB5-0094-48F2-90A4-4809E14B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B5C8B-D37B-4F91-B30B-D36E6A53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A892D-099E-4906-8133-C44C84C8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74D-80A1-462A-9817-6388626C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E3316-53CF-4081-A33B-812D2863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54EA9-7611-4217-8657-B0E7A972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77D88-527B-433F-8071-93A85FBB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53555-34B8-4D3A-A88E-F411F561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BF715-0498-449A-8953-F8942B0F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4C69A-C9EE-47A1-8B4E-A7AD39AF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B5F99-A397-4895-B1CC-7EE21C16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12ADC-4237-444D-85FE-E2C83BC6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3906F-6F2B-4456-A6E8-4E1AF566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0A18D-B87E-4F78-8B2C-4B9FF738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344-CA11-4431-A140-59327FE8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6EB8C-7C2B-47F3-99D8-0AF66AD0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F598A-ACC7-49BC-8928-DA100FEB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DE5F8-6338-4A87-A985-13CAA27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A1F4A-60CB-465F-9687-DB4860A1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145FE-33A5-4D91-A11A-4E50ABB3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C7C13-96F3-4DC0-8C17-84EF3CA2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CB023-D7C2-4F1A-86DF-7B76E8D8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FC1DB-141F-45C4-AD91-8EC420E1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C185AF-3F79-4AB8-BDC3-240A6244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5B695-9933-4699-B581-15C97971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08A8-9AB5-40E2-ABBF-6062D263D0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FF9D-FE69-4FE2-9893-08DC8F2FAD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791C-718D-4584-AFC6-3A087182C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F796-FC3F-4164-BCC8-F17FD0A9C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22B4-0D40-49EE-B8D3-EA626E7FBD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9562-D5E7-45CD-AAF8-26EB23F6A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CA1D-61BB-4E20-B11F-3FD3B2B873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2021-2E51-4636-9D60-1F1AC4570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44E3-4B08-466D-8607-6021FB6F0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9015-C885-4A89-BF61-145785FDD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D4E8-0C84-40FE-910A-2112CD3713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658E-35C8-445A-B3E5-C669BC1D90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FA83-5D3E-42BF-9672-4397D1FAA4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FEEF-8C12-48C7-ABC6-37A9A68DB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jpeg"/><Relationship Id="rId19" Type="http://schemas.openxmlformats.org/officeDocument/2006/relationships/image" Target="../media/image41.png"/><Relationship Id="rId2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1.jpe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Growing up Digital</a:t>
            </a:r>
            <a:br>
              <a:rPr sz="3800"/>
            </a:b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What makes our kids “click”?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4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684360" y="2708280"/>
            <a:ext cx="3382920" cy="3384720"/>
          </a:xfrm>
          <a:prstGeom prst="rect">
            <a:avLst/>
          </a:prstGeom>
          <a:ln w="0">
            <a:noFill/>
          </a:ln>
        </p:spPr>
      </p:pic>
      <p:sp>
        <p:nvSpPr>
          <p:cNvPr id="715" name="TextBox 4"/>
          <p:cNvSpPr/>
          <p:nvPr/>
        </p:nvSpPr>
        <p:spPr>
          <a:xfrm>
            <a:off x="5292720" y="3600360"/>
            <a:ext cx="3097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inetree Way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anuary 20, 20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The Places They Go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2" name="Picture 8" descr="MCj03126460000[1]"/>
          <p:cNvPicPr/>
          <p:nvPr/>
        </p:nvPicPr>
        <p:blipFill>
          <a:blip r:embed="rId1"/>
          <a:stretch/>
        </p:blipFill>
        <p:spPr>
          <a:xfrm>
            <a:off x="3708360" y="2457360"/>
            <a:ext cx="2071800" cy="21114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 rot="20639400">
            <a:off x="4835160" y="501012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963360" y="5402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2938320" y="3841920"/>
            <a:ext cx="1192320" cy="12078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6" descr="images3.jpg"/>
          <p:cNvPicPr/>
          <p:nvPr/>
        </p:nvPicPr>
        <p:blipFill>
          <a:blip r:embed="rId5"/>
          <a:stretch/>
        </p:blipFill>
        <p:spPr>
          <a:xfrm>
            <a:off x="1562040" y="3013200"/>
            <a:ext cx="1727280" cy="1001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8" descr="imagesCAKTRLBD.jpg"/>
          <p:cNvPicPr/>
          <p:nvPr/>
        </p:nvPicPr>
        <p:blipFill>
          <a:blip r:embed="rId6"/>
          <a:stretch/>
        </p:blipFill>
        <p:spPr>
          <a:xfrm>
            <a:off x="3405240" y="5049720"/>
            <a:ext cx="1700280" cy="15354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9" descr="imagesCAOEUU8Y.jpg"/>
          <p:cNvPicPr/>
          <p:nvPr/>
        </p:nvPicPr>
        <p:blipFill>
          <a:blip r:embed="rId7"/>
          <a:stretch/>
        </p:blipFill>
        <p:spPr>
          <a:xfrm rot="20436600">
            <a:off x="731520" y="1301400"/>
            <a:ext cx="1625400" cy="97488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21" descr="imagesCA7FS46N.jpg"/>
          <p:cNvPicPr/>
          <p:nvPr/>
        </p:nvPicPr>
        <p:blipFill>
          <a:blip r:embed="rId8"/>
          <a:stretch/>
        </p:blipFill>
        <p:spPr>
          <a:xfrm rot="1389000">
            <a:off x="7584840" y="41371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7" descr="images.jpg"/>
          <p:cNvPicPr/>
          <p:nvPr/>
        </p:nvPicPr>
        <p:blipFill>
          <a:blip r:embed="rId9"/>
          <a:stretch/>
        </p:blipFill>
        <p:spPr>
          <a:xfrm rot="954000">
            <a:off x="6621120" y="15652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22" descr="imagesCAN03YNH.jpg"/>
          <p:cNvPicPr/>
          <p:nvPr/>
        </p:nvPicPr>
        <p:blipFill>
          <a:blip r:embed="rId10"/>
          <a:stretch/>
        </p:blipFill>
        <p:spPr>
          <a:xfrm>
            <a:off x="6802560" y="53928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23" descr="imagesCAV824PJ.jpg"/>
          <p:cNvPicPr/>
          <p:nvPr/>
        </p:nvPicPr>
        <p:blipFill>
          <a:blip r:embed="rId11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4" descr="imagesCAOF6IPG.jpg"/>
          <p:cNvPicPr/>
          <p:nvPr/>
        </p:nvPicPr>
        <p:blipFill>
          <a:blip r:embed="rId12"/>
          <a:stretch/>
        </p:blipFill>
        <p:spPr>
          <a:xfrm>
            <a:off x="7694640" y="286560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6" descr="imagesCA71CM7J.jpg"/>
          <p:cNvPicPr/>
          <p:nvPr/>
        </p:nvPicPr>
        <p:blipFill>
          <a:blip r:embed="rId13"/>
          <a:stretch/>
        </p:blipFill>
        <p:spPr>
          <a:xfrm>
            <a:off x="6099120" y="21034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7" descr="imagesCAW4N5TV.jpg"/>
          <p:cNvPicPr/>
          <p:nvPr/>
        </p:nvPicPr>
        <p:blipFill>
          <a:blip r:embed="rId14"/>
          <a:stretch/>
        </p:blipFill>
        <p:spPr>
          <a:xfrm>
            <a:off x="411120" y="4048200"/>
            <a:ext cx="2247840" cy="14954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" descr=""/>
          <p:cNvPicPr/>
          <p:nvPr/>
        </p:nvPicPr>
        <p:blipFill>
          <a:blip r:embed="rId15"/>
          <a:stretch/>
        </p:blipFill>
        <p:spPr>
          <a:xfrm>
            <a:off x="7186680" y="146160"/>
            <a:ext cx="1566720" cy="11728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"/>
          <p:cNvPicPr/>
          <p:nvPr/>
        </p:nvPicPr>
        <p:blipFill>
          <a:blip r:embed="rId16"/>
          <a:stretch/>
        </p:blipFill>
        <p:spPr>
          <a:xfrm>
            <a:off x="468360" y="87480"/>
            <a:ext cx="1611360" cy="12906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17"/>
          <a:stretch/>
        </p:blipFill>
        <p:spPr>
          <a:xfrm>
            <a:off x="2922480" y="1319040"/>
            <a:ext cx="1543320" cy="15433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" descr=""/>
          <p:cNvPicPr/>
          <p:nvPr/>
        </p:nvPicPr>
        <p:blipFill>
          <a:blip r:embed="rId18"/>
          <a:stretch/>
        </p:blipFill>
        <p:spPr>
          <a:xfrm>
            <a:off x="5827680" y="3460680"/>
            <a:ext cx="1335240" cy="13352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" descr=""/>
          <p:cNvPicPr/>
          <p:nvPr/>
        </p:nvPicPr>
        <p:blipFill>
          <a:blip r:embed="rId19"/>
          <a:stretch/>
        </p:blipFill>
        <p:spPr>
          <a:xfrm>
            <a:off x="4130640" y="1312920"/>
            <a:ext cx="249228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Lucida Bright"/>
              </a:rPr>
              <a:t>The Challenges they fac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2" name="TextBox 5"/>
          <p:cNvSpPr/>
          <p:nvPr/>
        </p:nvSpPr>
        <p:spPr>
          <a:xfrm>
            <a:off x="250920" y="270828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appropriate Social Bhvr. (CyberBully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ivacy issues (Permanen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1" descr=""/>
          <p:cNvPicPr/>
          <p:nvPr/>
        </p:nvPicPr>
        <p:blipFill>
          <a:blip r:embed="rId1"/>
          <a:stretch/>
        </p:blipFill>
        <p:spPr>
          <a:xfrm>
            <a:off x="6300720" y="3600360"/>
            <a:ext cx="2548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We know what </a:t>
            </a:r>
            <a:r>
              <a:rPr b="0" lang="en-US" sz="3800" spc="-1" strike="noStrike">
                <a:solidFill>
                  <a:srgbClr val="00b050"/>
                </a:solidFill>
                <a:latin typeface="Georgia"/>
              </a:rPr>
              <a:t>“WE” </a:t>
            </a: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want for our children…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TextBox 3"/>
          <p:cNvSpPr/>
          <p:nvPr/>
        </p:nvSpPr>
        <p:spPr>
          <a:xfrm>
            <a:off x="140328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t how do we get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1" descr=""/>
          <p:cNvPicPr/>
          <p:nvPr/>
        </p:nvPicPr>
        <p:blipFill>
          <a:blip r:embed="rId1"/>
          <a:stretch/>
        </p:blipFill>
        <p:spPr>
          <a:xfrm>
            <a:off x="2371680" y="2852640"/>
            <a:ext cx="428616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16000" y="157320"/>
            <a:ext cx="730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br>
              <a:rPr sz="1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We Need to Parent…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0800" y="1550880"/>
            <a:ext cx="8721720" cy="5307120"/>
          </a:xfrm>
          <a:prstGeom prst="rect">
            <a:avLst/>
          </a:prstGeom>
          <a:noFill/>
          <a:ln w="9360">
            <a:solidFill>
              <a:srgbClr val="712d1c"/>
            </a:solidFill>
            <a:miter/>
          </a:ln>
        </p:spPr>
        <p:txBody>
          <a:bodyPr anchor="t">
            <a:normAutofit/>
          </a:bodyPr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Generate </a:t>
            </a:r>
            <a:r>
              <a:rPr b="1" lang="en-US" sz="3200" spc="-1" strike="noStrike">
                <a:solidFill>
                  <a:srgbClr val="712d1c"/>
                </a:solidFill>
                <a:latin typeface="Georgia"/>
              </a:rPr>
              <a:t>expectations</a:t>
            </a: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 (</a:t>
            </a: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Proactiv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1208160" indent="-3510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- Where do you allow tech use in your hom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t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- What is appropriate for you and your value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wn tim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– How much is enough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lanc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– What else do they need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ivacy control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– What are these??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1208160" indent="-351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9" name="Picture 5" descr="C:\Users\dsands\AppData\Local\Microsoft\Windows\Temporary Internet Files\Content.Outlook\JKNHDH7G\photo (7).JPG"/>
          <p:cNvPicPr/>
          <p:nvPr/>
        </p:nvPicPr>
        <p:blipFill>
          <a:blip r:embed="rId1"/>
          <a:stretch/>
        </p:blipFill>
        <p:spPr>
          <a:xfrm>
            <a:off x="6372360" y="4365720"/>
            <a:ext cx="2520720" cy="18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7000" y="333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f you wouldn’t say it in person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Parenting 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9280" y="1700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Georgia"/>
              </a:rPr>
              <a:t>Establish a response </a:t>
            </a:r>
            <a:r>
              <a:rPr b="0" lang="en-US" sz="3200" spc="-1" strike="noStrike">
                <a:solidFill>
                  <a:srgbClr val="00b050"/>
                </a:solidFill>
                <a:latin typeface="Georgia"/>
              </a:rPr>
              <a:t>“plan” </a:t>
            </a:r>
            <a:r>
              <a:rPr b="0" lang="en-US" sz="3200" spc="-1" strike="noStrike">
                <a:solidFill>
                  <a:srgbClr val="646b86"/>
                </a:solidFill>
                <a:latin typeface="Georgia"/>
              </a:rPr>
              <a:t>(Reactive)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lvl="1" marL="12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lvl="2" marL="922320" indent="-342720">
              <a:spcBef>
                <a:spcPts val="7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gical consequenc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342720">
              <a:spcBef>
                <a:spcPts val="7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issues as </a:t>
            </a:r>
            <a:r>
              <a:rPr b="0" lang="en-US" sz="3200" spc="-1" strike="noStrike">
                <a:solidFill>
                  <a:srgbClr val="00b050"/>
                </a:solidFill>
                <a:latin typeface="Georgia"/>
              </a:rPr>
              <a:t>“learning opportunities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342720">
              <a:spcBef>
                <a:spcPts val="7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 available to </a:t>
            </a:r>
            <a:r>
              <a:rPr b="0" lang="en-US" sz="3200" spc="-1" strike="noStrike">
                <a:solidFill>
                  <a:srgbClr val="00b050"/>
                </a:solidFill>
                <a:latin typeface="Georgia"/>
              </a:rPr>
              <a:t>“support not punish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342720">
              <a:spcBef>
                <a:spcPts val="7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eserve your </a:t>
            </a:r>
            <a:r>
              <a:rPr b="0" lang="en-US" sz="3200" spc="-1" strike="noStrike">
                <a:solidFill>
                  <a:srgbClr val="00b050"/>
                </a:solidFill>
                <a:latin typeface="Georgia"/>
              </a:rPr>
              <a:t>relationship and attachment</a:t>
            </a:r>
            <a:r>
              <a:rPr b="0" lang="en-US" sz="3200" spc="-1" strike="noStrike">
                <a:solidFill>
                  <a:srgbClr val="0070c0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rmananc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826920" y="1139400"/>
            <a:ext cx="673272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 rot="888600">
            <a:off x="5908680" y="1452600"/>
            <a:ext cx="2303280" cy="23032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" descr=""/>
          <p:cNvPicPr/>
          <p:nvPr/>
        </p:nvPicPr>
        <p:blipFill>
          <a:blip r:embed="rId2"/>
          <a:stretch/>
        </p:blipFill>
        <p:spPr>
          <a:xfrm>
            <a:off x="3147840" y="4676760"/>
            <a:ext cx="2352960" cy="1943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7" descr=""/>
          <p:cNvPicPr/>
          <p:nvPr/>
        </p:nvPicPr>
        <p:blipFill>
          <a:blip r:embed="rId3"/>
          <a:stretch/>
        </p:blipFill>
        <p:spPr>
          <a:xfrm>
            <a:off x="5437080" y="3327480"/>
            <a:ext cx="2814840" cy="28033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"/>
          <p:cNvPicPr/>
          <p:nvPr/>
        </p:nvPicPr>
        <p:blipFill>
          <a:blip r:embed="rId4"/>
          <a:stretch/>
        </p:blipFill>
        <p:spPr>
          <a:xfrm>
            <a:off x="2970360" y="273204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9" descr=""/>
          <p:cNvPicPr/>
          <p:nvPr/>
        </p:nvPicPr>
        <p:blipFill>
          <a:blip r:embed="rId5"/>
          <a:stretch/>
        </p:blipFill>
        <p:spPr>
          <a:xfrm>
            <a:off x="611280" y="3244680"/>
            <a:ext cx="2138400" cy="28576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10" descr=""/>
          <p:cNvPicPr/>
          <p:nvPr/>
        </p:nvPicPr>
        <p:blipFill>
          <a:blip r:embed="rId6"/>
          <a:stretch/>
        </p:blipFill>
        <p:spPr>
          <a:xfrm>
            <a:off x="662040" y="1452600"/>
            <a:ext cx="2098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-25560" y="475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ink before you post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030a0"/>
                </a:solidFill>
                <a:latin typeface="Georgia"/>
              </a:rPr>
              <a:t>Be Involved and connected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et online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municate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ract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ay games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tch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reate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gage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0" lang="en-US" sz="4400" spc="-1" strike="noStrike">
                <a:solidFill>
                  <a:srgbClr val="7030a0"/>
                </a:solidFill>
                <a:latin typeface="Georgia"/>
              </a:rPr>
              <a:t>with THEM!</a:t>
            </a:r>
            <a:endParaRPr b="0" lang="en-US" sz="4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96" name="Picture 1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478944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" descr="images.jpg"/>
          <p:cNvPicPr/>
          <p:nvPr/>
        </p:nvPicPr>
        <p:blipFill>
          <a:blip r:embed="rId2"/>
          <a:stretch/>
        </p:blipFill>
        <p:spPr>
          <a:xfrm>
            <a:off x="3203640" y="0"/>
            <a:ext cx="2736720" cy="10317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6" descr=""/>
          <p:cNvPicPr/>
          <p:nvPr/>
        </p:nvPicPr>
        <p:blipFill>
          <a:blip r:embed="rId3"/>
          <a:stretch/>
        </p:blipFill>
        <p:spPr>
          <a:xfrm>
            <a:off x="3174840" y="2924280"/>
            <a:ext cx="5888160" cy="368136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6" descr=""/>
          <p:cNvPicPr/>
          <p:nvPr/>
        </p:nvPicPr>
        <p:blipFill>
          <a:blip r:embed="rId4"/>
          <a:stretch/>
        </p:blipFill>
        <p:spPr>
          <a:xfrm>
            <a:off x="7020000" y="428760"/>
            <a:ext cx="1671480" cy="22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468000" y="404280"/>
            <a:ext cx="81327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Georgia"/>
              </a:rPr>
              <a:t>Why does it matter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7" name="Picture 1" descr=""/>
          <p:cNvPicPr/>
          <p:nvPr/>
        </p:nvPicPr>
        <p:blipFill>
          <a:blip r:embed="rId1"/>
          <a:stretch/>
        </p:blipFill>
        <p:spPr>
          <a:xfrm>
            <a:off x="371520" y="1601640"/>
            <a:ext cx="3168720" cy="24908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672000" cy="24386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"/>
          <p:cNvPicPr/>
          <p:nvPr/>
        </p:nvPicPr>
        <p:blipFill>
          <a:blip r:embed="rId3"/>
          <a:stretch/>
        </p:blipFill>
        <p:spPr>
          <a:xfrm>
            <a:off x="2987640" y="3571920"/>
            <a:ext cx="3433680" cy="25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Contact information and Resour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539280" y="1915920"/>
            <a:ext cx="860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ve Sand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15960" indent="-3430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dsands@sd43.bc.ca or dave.h.sands@gmail.com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15960" indent="-3430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http://connectandprotect.wikispaces.com/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itt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15960" indent="-343080">
              <a:spcBef>
                <a:spcPts val="550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eorgia"/>
              </a:rPr>
              <a:t>@dhsan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stagr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15960" indent="-343080">
              <a:spcBef>
                <a:spcPts val="601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thelegitsandman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615960" indent="-3430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61596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50"/>
                </a:solidFill>
                <a:latin typeface="Georgia"/>
              </a:rPr>
              <a:t>Homework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436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sit my </a:t>
            </a:r>
            <a:r>
              <a:rPr b="0" lang="en-US" sz="2400" spc="-1" strike="noStrike">
                <a:solidFill>
                  <a:srgbClr val="00b050"/>
                </a:solidFill>
                <a:latin typeface="Georgia"/>
              </a:rPr>
              <a:t>Wiki pag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look at 3 different articles/video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 online and establish 3 new accounts on </a:t>
            </a:r>
            <a:r>
              <a:rPr b="0" lang="en-US" sz="2400" spc="-1" strike="noStrike">
                <a:solidFill>
                  <a:srgbClr val="00b050"/>
                </a:solidFill>
                <a:latin typeface="Georgia"/>
              </a:rPr>
              <a:t>web 2.0 tool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eorgia"/>
              </a:rPr>
              <a:t>Talk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to your child/ren about one or more of these tool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3030480" cy="24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arning Inten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94920" y="1628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gain a better understanding of our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childre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their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examine our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children’s us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technolog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increase our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awarenes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the potential dangers and challenges around technology us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provide you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support and resourc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better understand these issu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encourage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practical, proactive strategi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pport your children around healthy technology us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13" descr="The Bridge"/>
          <p:cNvPicPr/>
          <p:nvPr/>
        </p:nvPicPr>
        <p:blipFill>
          <a:blip r:embed="rId1"/>
          <a:stretch/>
        </p:blipFill>
        <p:spPr>
          <a:xfrm>
            <a:off x="2600280" y="3476520"/>
            <a:ext cx="3019320" cy="22291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32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member When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24" name="Picture 7" descr="Fred Flintstone"/>
          <p:cNvPicPr/>
          <p:nvPr/>
        </p:nvPicPr>
        <p:blipFill>
          <a:blip r:embed="rId2"/>
          <a:stretch/>
        </p:blipFill>
        <p:spPr>
          <a:xfrm rot="21033600">
            <a:off x="1073160" y="3897360"/>
            <a:ext cx="1238400" cy="238104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5" descr="jeannie001"/>
          <p:cNvPicPr/>
          <p:nvPr/>
        </p:nvPicPr>
        <p:blipFill>
          <a:blip r:embed="rId3"/>
          <a:stretch/>
        </p:blipFill>
        <p:spPr>
          <a:xfrm rot="20797800">
            <a:off x="5203800" y="157932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7" descr="elvis-portrait3sm"/>
          <p:cNvPicPr/>
          <p:nvPr/>
        </p:nvPicPr>
        <p:blipFill>
          <a:blip r:embed="rId4"/>
          <a:stretch/>
        </p:blipFill>
        <p:spPr>
          <a:xfrm>
            <a:off x="7726320" y="234648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9" descr="Woodstock Festival Remembered"/>
          <p:cNvPicPr/>
          <p:nvPr/>
        </p:nvPicPr>
        <p:blipFill>
          <a:blip r:embed="rId5"/>
          <a:stretch/>
        </p:blipFill>
        <p:spPr>
          <a:xfrm rot="604200">
            <a:off x="6254280" y="363996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photo_GEORGE"/>
          <p:cNvPicPr/>
          <p:nvPr/>
        </p:nvPicPr>
        <p:blipFill>
          <a:blip r:embed="rId6"/>
          <a:stretch/>
        </p:blipFill>
        <p:spPr>
          <a:xfrm>
            <a:off x="5162400" y="4687920"/>
            <a:ext cx="1629000" cy="12762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1" descr="Happy days.jpg"/>
          <p:cNvPicPr/>
          <p:nvPr/>
        </p:nvPicPr>
        <p:blipFill>
          <a:blip r:embed="rId7"/>
          <a:stretch/>
        </p:blipFill>
        <p:spPr>
          <a:xfrm>
            <a:off x="306360" y="1371600"/>
            <a:ext cx="1386000" cy="974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2" descr="gilligans-island-season-2.jpg"/>
          <p:cNvPicPr/>
          <p:nvPr/>
        </p:nvPicPr>
        <p:blipFill>
          <a:blip r:embed="rId8"/>
          <a:stretch/>
        </p:blipFill>
        <p:spPr>
          <a:xfrm rot="529200">
            <a:off x="6595920" y="790560"/>
            <a:ext cx="1559160" cy="1817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3" descr="Rubics cube.jpg"/>
          <p:cNvPicPr/>
          <p:nvPr/>
        </p:nvPicPr>
        <p:blipFill>
          <a:blip r:embed="rId9"/>
          <a:stretch/>
        </p:blipFill>
        <p:spPr>
          <a:xfrm>
            <a:off x="2498760" y="1033560"/>
            <a:ext cx="1047600" cy="11142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4" descr="Atari_2600.png"/>
          <p:cNvPicPr/>
          <p:nvPr/>
        </p:nvPicPr>
        <p:blipFill>
          <a:blip r:embed="rId10"/>
          <a:stretch/>
        </p:blipFill>
        <p:spPr>
          <a:xfrm>
            <a:off x="7137360" y="4815000"/>
            <a:ext cx="1774800" cy="1780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" descr=""/>
          <p:cNvPicPr/>
          <p:nvPr/>
        </p:nvPicPr>
        <p:blipFill>
          <a:blip r:embed="rId11"/>
          <a:stretch/>
        </p:blipFill>
        <p:spPr>
          <a:xfrm>
            <a:off x="635040" y="2147760"/>
            <a:ext cx="2114640" cy="21621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4" descr=""/>
          <p:cNvPicPr/>
          <p:nvPr/>
        </p:nvPicPr>
        <p:blipFill>
          <a:blip r:embed="rId12"/>
          <a:stretch/>
        </p:blipFill>
        <p:spPr>
          <a:xfrm>
            <a:off x="3244680" y="5087880"/>
            <a:ext cx="1917720" cy="1179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5" descr=""/>
          <p:cNvPicPr/>
          <p:nvPr/>
        </p:nvPicPr>
        <p:blipFill>
          <a:blip r:embed="rId13"/>
          <a:stretch/>
        </p:blipFill>
        <p:spPr>
          <a:xfrm>
            <a:off x="3056040" y="1928880"/>
            <a:ext cx="2106360" cy="157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The World has changed</a:t>
            </a: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55640" y="1458720"/>
            <a:ext cx="39225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For Our Children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hey have </a:t>
            </a:r>
            <a:r>
              <a:rPr b="0" lang="en-US" sz="2600" spc="-1" strike="noStrike">
                <a:solidFill>
                  <a:srgbClr val="7030a0"/>
                </a:solidFill>
                <a:latin typeface="Georgia"/>
              </a:rPr>
              <a:t>never not known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the Interne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eorgia"/>
              </a:rPr>
              <a:t>Information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is fre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eorgia"/>
              </a:rPr>
              <a:t>Communication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is seamles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hey are wireless, yet always </a:t>
            </a:r>
            <a:r>
              <a:rPr b="0" lang="en-US" sz="2600" spc="-1" strike="noStrike">
                <a:solidFill>
                  <a:srgbClr val="7030a0"/>
                </a:solidFill>
                <a:latin typeface="Georgia"/>
              </a:rPr>
              <a:t>connecte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8" name="Picture 2" descr=""/>
          <p:cNvPicPr/>
          <p:nvPr/>
        </p:nvPicPr>
        <p:blipFill>
          <a:blip r:embed="rId1"/>
          <a:stretch/>
        </p:blipFill>
        <p:spPr>
          <a:xfrm>
            <a:off x="4714920" y="1916280"/>
            <a:ext cx="405936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Fourth Scre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466560" y="1122120"/>
            <a:ext cx="4175280" cy="56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Google” 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as always been a ver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Text messaging 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is their e-mai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ey are </a:t>
            </a: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never alone 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d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ave </a:t>
            </a: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rarely mailed 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ything using a stam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2" name="Picture 1" descr=""/>
          <p:cNvPicPr/>
          <p:nvPr/>
        </p:nvPicPr>
        <p:blipFill>
          <a:blip r:embed="rId1"/>
          <a:stretch/>
        </p:blipFill>
        <p:spPr>
          <a:xfrm>
            <a:off x="5003640" y="1298520"/>
            <a:ext cx="3794400" cy="4178520"/>
          </a:xfrm>
          <a:prstGeom prst="rect">
            <a:avLst/>
          </a:prstGeom>
          <a:ln w="0">
            <a:noFill/>
          </a:ln>
        </p:spPr>
      </p:pic>
      <p:sp>
        <p:nvSpPr>
          <p:cNvPr id="743" name="TextBox 1"/>
          <p:cNvSpPr/>
          <p:nvPr/>
        </p:nvSpPr>
        <p:spPr>
          <a:xfrm>
            <a:off x="1042920" y="40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The Net Gener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What are their </a:t>
            </a: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need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828720" y="1484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en though the world has changed dramatically, our kids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“needs”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main the sa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746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7b9899"/>
                </a:solidFill>
                <a:latin typeface="Georgia"/>
              </a:rPr>
              <a:t>Why do they go online/use technology?</a:t>
            </a:r>
            <a:br>
              <a:rPr sz="3200"/>
            </a:br>
            <a:r>
              <a:rPr b="1" lang="en-US" sz="3200" spc="-1" strike="noStrike">
                <a:solidFill>
                  <a:srgbClr val="7b9899"/>
                </a:solidFill>
                <a:latin typeface="Georgia"/>
              </a:rPr>
              <a:t>What “needs” does it meet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1371240" y="1413000"/>
            <a:ext cx="38480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ven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se of Belon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ing he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0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7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7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6-01-21T00:10:16Z</dcterms:modified>
  <cp:revision>132</cp:revision>
  <dc:subject/>
  <dc:title>Technology, kids and you</dc:title>
</cp:coreProperties>
</file>